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apert2.wav" ContentType="audio/x-wav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falling.wav" ContentType="audio/x-wav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left.wav" ContentType="audio/x-wav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eb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falling.wav"/><Relationship Id="rId3" Type="http://schemas.openxmlformats.org/officeDocument/2006/relationships/audio" Target="../media/fallin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eft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ert2.wav"/><Relationship Id="rId4" Type="http://schemas.openxmlformats.org/officeDocument/2006/relationships/audio" Target="../media/falling.wav"/><Relationship Id="rId5" Type="http://schemas.openxmlformats.org/officeDocument/2006/relationships/audio" Target="../media/apert2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left.wav"/><Relationship Id="rId3" Type="http://schemas.openxmlformats.org/officeDocument/2006/relationships/audio" Target="../media/left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eft.wav"/><Relationship Id="rId2" Type="http://schemas.openxmlformats.org/officeDocument/2006/relationships/audio" Target="../media/left.wav"/><Relationship Id="rId3" Type="http://schemas.openxmlformats.org/officeDocument/2006/relationships/audio" Target="../media/lef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eft.wav"/><Relationship Id="rId3" Type="http://schemas.openxmlformats.org/officeDocument/2006/relationships/audio" Target="../media/left.wav"/><Relationship Id="rId4" Type="http://schemas.openxmlformats.org/officeDocument/2006/relationships/audio" Target="../media/left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eft.wav"/><Relationship Id="rId3" Type="http://schemas.openxmlformats.org/officeDocument/2006/relationships/audio" Target="../media/lef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fallin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eft.wav"/><Relationship Id="rId3" Type="http://schemas.openxmlformats.org/officeDocument/2006/relationships/audio" Target="../media/fallin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signing Websi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Using HTML and Front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ing formatting for a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6746760" cy="52293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71" name="AutoShape 3"/>
          <p:cNvSpPr/>
          <p:nvPr/>
        </p:nvSpPr>
        <p:spPr>
          <a:xfrm>
            <a:off x="3666960" y="5139360"/>
            <a:ext cx="2524320" cy="204012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Font Ta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68440" y="2055960"/>
            <a:ext cx="4038480" cy="4524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74" name="AutoShape 3"/>
          <p:cNvSpPr/>
          <p:nvPr/>
        </p:nvSpPr>
        <p:spPr>
          <a:xfrm>
            <a:off x="5032440" y="2463120"/>
            <a:ext cx="3809880" cy="136044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ell as the size,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olour of a fo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othe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choo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5064120" y="4531320"/>
            <a:ext cx="3714840" cy="1700280"/>
          </a:xfrm>
          <a:prstGeom prst="roundRect">
            <a:avLst>
              <a:gd name="adj" fmla="val 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backgrou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rder, line-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lignment, other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elect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ifying a sty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CSS fi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670040" y="1730520"/>
            <a:ext cx="6759720" cy="5344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78" name="AutoShape 3"/>
          <p:cNvSpPr/>
          <p:nvPr/>
        </p:nvSpPr>
        <p:spPr>
          <a:xfrm>
            <a:off x="4127400" y="5157000"/>
            <a:ext cx="3746520" cy="1020600"/>
          </a:xfrm>
          <a:prstGeom prst="roundRect">
            <a:avLst>
              <a:gd name="adj" fmla="val 1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cking on the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lbar allows you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 modify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inking to a CSS fi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84280" y="1762200"/>
            <a:ext cx="7289640" cy="5419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81" name="AutoShape 3"/>
          <p:cNvSpPr/>
          <p:nvPr/>
        </p:nvSpPr>
        <p:spPr>
          <a:xfrm>
            <a:off x="4857840" y="4006440"/>
            <a:ext cx="3397320" cy="1019880"/>
          </a:xfrm>
          <a:prstGeom prst="roundRect">
            <a:avLst>
              <a:gd name="adj" fmla="val 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use a CSS fi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must first link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your HTML fi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ultiple stylesheet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98440" y="1825560"/>
            <a:ext cx="7559640" cy="56102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84" name="AutoShape 3"/>
          <p:cNvSpPr/>
          <p:nvPr/>
        </p:nvSpPr>
        <p:spPr>
          <a:xfrm>
            <a:off x="5810400" y="3971520"/>
            <a:ext cx="2793960" cy="1359720"/>
          </a:xfrm>
          <a:prstGeom prst="roundRect">
            <a:avLst>
              <a:gd name="adj" fmla="val 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you needed 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ould link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than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inking code for styleshe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82560" y="1746360"/>
            <a:ext cx="6683400" cy="5432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87" name="AutoShape 3"/>
          <p:cNvSpPr/>
          <p:nvPr/>
        </p:nvSpPr>
        <p:spPr>
          <a:xfrm>
            <a:off x="7524720" y="4210920"/>
            <a:ext cx="2238480" cy="204012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ing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SS fi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ed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head&gt;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nt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viewing a 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54120" y="2048040"/>
            <a:ext cx="6791400" cy="5289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90" name="AutoShape 3"/>
          <p:cNvSpPr/>
          <p:nvPr/>
        </p:nvSpPr>
        <p:spPr>
          <a:xfrm>
            <a:off x="4921200" y="4289040"/>
            <a:ext cx="3397320" cy="1359720"/>
          </a:xfrm>
          <a:prstGeom prst="roundRect">
            <a:avLst>
              <a:gd name="adj" fmla="val 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ge preview 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automatically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r page with all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CSS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ding a pi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635200" y="1746360"/>
            <a:ext cx="6997680" cy="5742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93" name="AutoShape 3"/>
          <p:cNvSpPr/>
          <p:nvPr/>
        </p:nvSpPr>
        <p:spPr>
          <a:xfrm>
            <a:off x="698400" y="4155120"/>
            <a:ext cx="3429000" cy="204012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&lt;img src&gt; tag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picture in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ge. It can be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us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icture Pre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84240" y="1762200"/>
            <a:ext cx="6823080" cy="5424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96" name="AutoShape 3"/>
          <p:cNvSpPr/>
          <p:nvPr/>
        </p:nvSpPr>
        <p:spPr>
          <a:xfrm>
            <a:off x="5778360" y="5054040"/>
            <a:ext cx="3127680" cy="1019880"/>
          </a:xfrm>
          <a:prstGeom prst="roundRect">
            <a:avLst>
              <a:gd name="adj" fmla="val 12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wa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ge's layo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us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ding a hyperli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12680" y="1650960"/>
            <a:ext cx="8163000" cy="5689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99" name="AutoShape 3"/>
          <p:cNvSpPr/>
          <p:nvPr/>
        </p:nvSpPr>
        <p:spPr>
          <a:xfrm>
            <a:off x="5175360" y="5339880"/>
            <a:ext cx="3063600" cy="1019880"/>
          </a:xfrm>
          <a:prstGeom prst="roundRect">
            <a:avLst>
              <a:gd name="adj" fmla="val 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erlinks mak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page much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ful  than a prin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Typical Web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70120" y="1778040"/>
            <a:ext cx="6076800" cy="4095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42" name="AutoShape 3"/>
          <p:cNvSpPr/>
          <p:nvPr/>
        </p:nvSpPr>
        <p:spPr>
          <a:xfrm>
            <a:off x="2352600" y="2004840"/>
            <a:ext cx="2725920" cy="340200"/>
          </a:xfrm>
          <a:prstGeom prst="roundRect">
            <a:avLst>
              <a:gd name="adj" fmla="val 3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ew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79360" y="4829760"/>
            <a:ext cx="2479680" cy="2379960"/>
          </a:xfrm>
          <a:prstGeom prst="roundRect">
            <a:avLst>
              <a:gd name="adj" fmla="val 6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ebpage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f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ction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a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e 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l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071880" y="2674800"/>
            <a:ext cx="6564240" cy="4681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e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olute and Relative UR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076480" y="1809720"/>
            <a:ext cx="5753160" cy="31431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02" name="AutoShape 3"/>
          <p:cNvSpPr/>
          <p:nvPr/>
        </p:nvSpPr>
        <p:spPr>
          <a:xfrm>
            <a:off x="603360" y="5239800"/>
            <a:ext cx="4000320" cy="680760"/>
          </a:xfrm>
          <a:prstGeom prst="roundRect">
            <a:avLst>
              <a:gd name="adj" fmla="val 1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don't have to link to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635200" y="6310080"/>
            <a:ext cx="6572160" cy="1020600"/>
          </a:xfrm>
          <a:prstGeom prst="roundRect">
            <a:avLst>
              <a:gd name="adj" fmla="val 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page in the same directory as this fi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the filename would be en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watch out for upper/lower case lett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llowing lin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33320" y="2286000"/>
            <a:ext cx="6553440" cy="5091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06" name="AutoShape 3"/>
          <p:cNvSpPr/>
          <p:nvPr/>
        </p:nvSpPr>
        <p:spPr>
          <a:xfrm>
            <a:off x="7651800" y="4123440"/>
            <a:ext cx="2031840" cy="2040120"/>
          </a:xfrm>
          <a:custGeom>
            <a:avLst/>
            <a:gdLst>
              <a:gd name="textAreaLeft" fmla="*/ 360 w 2031840"/>
              <a:gd name="textAreaRight" fmla="*/ 2031480 w 2031840"/>
              <a:gd name="textAreaTop" fmla="*/ 360 h 2040120"/>
              <a:gd name="textAreaBottom" fmla="*/ 2039760 h 2040120"/>
            </a:gdLst>
            <a:ahLst/>
            <a:rect l="textAreaLeft" t="textAreaTop" r="textAreaRight" b="textAreaBottom"/>
            <a:pathLst>
              <a:path w="21600" h="21688">
                <a:moveTo>
                  <a:pt x="16" y="0"/>
                </a:moveTo>
                <a:arcTo wR="16" hR="16" stAng="16200000" swAng="-5400000"/>
                <a:lnTo>
                  <a:pt x="0" y="21672"/>
                </a:lnTo>
                <a:arcTo wR="16" hR="16" stAng="10800000" swAng="-5400000"/>
                <a:lnTo>
                  <a:pt x="21584" y="2168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e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uall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bles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35200" y="1849320"/>
            <a:ext cx="6172200" cy="52866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09" name="AutoShape 3"/>
          <p:cNvSpPr/>
          <p:nvPr/>
        </p:nvSpPr>
        <p:spPr>
          <a:xfrm>
            <a:off x="7413480" y="3391200"/>
            <a:ext cx="2428920" cy="3059640"/>
          </a:xfrm>
          <a:custGeom>
            <a:avLst/>
            <a:gdLst>
              <a:gd name="textAreaLeft" fmla="*/ 360 w 2428920"/>
              <a:gd name="textAreaRight" fmla="*/ 2428560 w 2428920"/>
              <a:gd name="textAreaTop" fmla="*/ 360 h 3059640"/>
              <a:gd name="textAreaBottom" fmla="*/ 3059280 h 3059640"/>
            </a:gdLst>
            <a:ahLst/>
            <a:rect l="textAreaLeft" t="textAreaTop" r="textAreaRight" b="textAreaBottom"/>
            <a:pathLst>
              <a:path w="21600" h="27208">
                <a:moveTo>
                  <a:pt x="14" y="0"/>
                </a:moveTo>
                <a:arcTo wR="14" hR="14" stAng="16200000" swAng="-5400000"/>
                <a:lnTo>
                  <a:pt x="0" y="27194"/>
                </a:lnTo>
                <a:arcTo wR="14" hR="14" stAng="10800000" swAng="-5400000"/>
                <a:lnTo>
                  <a:pt x="21586" y="27208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able doesn'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to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for ta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.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use i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rang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a pag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table so far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587600" y="1671480"/>
            <a:ext cx="7283520" cy="5712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12" name="AutoShape 3"/>
          <p:cNvSpPr/>
          <p:nvPr/>
        </p:nvSpPr>
        <p:spPr>
          <a:xfrm>
            <a:off x="6620040" y="4439520"/>
            <a:ext cx="3159000" cy="136044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drag and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 just like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d-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odifying a ta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23800" y="1682640"/>
            <a:ext cx="7223040" cy="5673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15" name="AutoShape 3"/>
          <p:cNvSpPr/>
          <p:nvPr/>
        </p:nvSpPr>
        <p:spPr>
          <a:xfrm>
            <a:off x="7000920" y="3651840"/>
            <a:ext cx="2635200" cy="237996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a tab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de,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 way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tire t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individu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ble Proper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30200" y="1778040"/>
            <a:ext cx="7670880" cy="5451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HTML co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25480" y="1544760"/>
            <a:ext cx="6962760" cy="5895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final preview of our 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49280" y="1762200"/>
            <a:ext cx="7270920" cy="53402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reating Webp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create a page by hand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a text-editor like </a:t>
            </a:r>
            <a:r>
              <a:rPr b="0" i="1" lang="en-GB" sz="3200" spc="-1" strike="noStrike">
                <a:solidFill>
                  <a:srgbClr val="c0c0c0"/>
                </a:solidFill>
                <a:latin typeface="Arial"/>
              </a:rPr>
              <a:t>Note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use web-based tool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1" i="1" lang="en-GB" sz="3200" spc="-1" strike="noStrike">
                <a:solidFill>
                  <a:srgbClr val="c0c0c0"/>
                </a:solidFill>
                <a:latin typeface="Arial"/>
              </a:rPr>
              <a:t>Blogging/Content Management System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 store your data and present it in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use website authoring softwar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i="1" lang="en-GB" sz="3200" spc="-1" strike="noStrike">
                <a:solidFill>
                  <a:srgbClr val="c0c0c0"/>
                </a:solidFill>
                <a:latin typeface="Arial"/>
              </a:rPr>
              <a:t>FrontP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c0c0c0"/>
                </a:solidFill>
                <a:latin typeface="Arial"/>
              </a:rPr>
              <a:t>Dreamwea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create a page, and upload it when you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TML and Front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6568920" cy="5386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49" name="AutoShape 3"/>
          <p:cNvSpPr/>
          <p:nvPr/>
        </p:nvSpPr>
        <p:spPr>
          <a:xfrm>
            <a:off x="7461360" y="2286720"/>
            <a:ext cx="2286000" cy="2379960"/>
          </a:xfrm>
          <a:custGeom>
            <a:avLst/>
            <a:gdLst>
              <a:gd name="textAreaLeft" fmla="*/ 360 w 2286000"/>
              <a:gd name="textAreaRight" fmla="*/ 2285640 w 2286000"/>
              <a:gd name="textAreaTop" fmla="*/ 360 h 2379960"/>
              <a:gd name="textAreaBottom" fmla="*/ 2379600 h 2379960"/>
            </a:gdLst>
            <a:ahLst/>
            <a:rect l="textAreaLeft" t="textAreaTop" r="textAreaRight" b="textAreaBottom"/>
            <a:pathLst>
              <a:path w="21600" h="22488">
                <a:moveTo>
                  <a:pt x="15" y="0"/>
                </a:moveTo>
                <a:arcTo wR="15" hR="15" stAng="16200000" swAng="-5400000"/>
                <a:lnTo>
                  <a:pt x="0" y="22473"/>
                </a:lnTo>
                <a:arcTo wR="15" hR="15" stAng="10800000" swAng="-5400000"/>
                <a:lnTo>
                  <a:pt x="21585" y="22488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ntPage i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to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s you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M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HTML for our first 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159000" y="1778040"/>
            <a:ext cx="6823080" cy="5440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52" name="AutoShape 3"/>
          <p:cNvSpPr/>
          <p:nvPr/>
        </p:nvSpPr>
        <p:spPr>
          <a:xfrm>
            <a:off x="127080" y="1985400"/>
            <a:ext cx="2825640" cy="680760"/>
          </a:xfrm>
          <a:prstGeom prst="roundRect">
            <a:avLst>
              <a:gd name="adj" fmla="val 1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ML tag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in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95400" y="3094560"/>
            <a:ext cx="2889000" cy="1700280"/>
          </a:xfrm>
          <a:prstGeom prst="roundRect">
            <a:avLst>
              <a:gd name="adj" fmla="val 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head&gt; and 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s, you f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95400" y="5195160"/>
            <a:ext cx="2889000" cy="2040120"/>
          </a:xfrm>
          <a:prstGeom prst="roundRect">
            <a:avLst>
              <a:gd name="adj" fmla="val 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body&gt; and 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s, you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ructio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ing tex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ctures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ding text to our first p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21040" y="1793880"/>
            <a:ext cx="6807240" cy="5345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57" name="AutoShape 3"/>
          <p:cNvSpPr/>
          <p:nvPr/>
        </p:nvSpPr>
        <p:spPr>
          <a:xfrm>
            <a:off x="301680" y="2424960"/>
            <a:ext cx="2492280" cy="340920"/>
          </a:xfrm>
          <a:prstGeom prst="roundRect">
            <a:avLst>
              <a:gd name="adj" fmla="val 3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graph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206280" y="3321360"/>
            <a:ext cx="2508480" cy="3739320"/>
          </a:xfrm>
          <a:custGeom>
            <a:avLst/>
            <a:gdLst>
              <a:gd name="textAreaLeft" fmla="*/ 360 w 2508480"/>
              <a:gd name="textAreaRight" fmla="*/ 2508120 w 2508480"/>
              <a:gd name="textAreaTop" fmla="*/ 360 h 3739320"/>
              <a:gd name="textAreaBottom" fmla="*/ 3738960 h 3739320"/>
            </a:gdLst>
            <a:ahLst/>
            <a:rect l="textAreaLeft" t="textAreaTop" r="textAreaRight" b="textAreaBottom"/>
            <a:pathLst>
              <a:path w="21600" h="32197">
                <a:moveTo>
                  <a:pt x="13" y="0"/>
                </a:moveTo>
                <a:arcTo wR="13" hR="13" stAng="16200000" swAng="-5400000"/>
                <a:lnTo>
                  <a:pt x="0" y="32184"/>
                </a:lnTo>
                <a:arcTo wR="13" hR="13" stAng="10800000" swAng="-5400000"/>
                <a:lnTo>
                  <a:pt x="21587" y="32197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h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h1&gt; Headin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bigg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h6&gt; Heading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small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make 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dings 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sing HTML to format our tex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9200" y="1778040"/>
            <a:ext cx="6458040" cy="5472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1" name="AutoShape 3"/>
          <p:cNvSpPr/>
          <p:nvPr/>
        </p:nvSpPr>
        <p:spPr>
          <a:xfrm>
            <a:off x="7350120" y="4702680"/>
            <a:ext cx="2079720" cy="2040120"/>
          </a:xfrm>
          <a:prstGeom prst="roundRect">
            <a:avLst>
              <a:gd name="adj" fmla="val 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format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 quick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sc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SS)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reating a blank styleshe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8960" y="2332080"/>
            <a:ext cx="5648400" cy="4257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4" name="AutoShape 3"/>
          <p:cNvSpPr/>
          <p:nvPr/>
        </p:nvSpPr>
        <p:spPr>
          <a:xfrm>
            <a:off x="6620040" y="3079080"/>
            <a:ext cx="2809800" cy="1699560"/>
          </a:xfrm>
          <a:prstGeom prst="roundRect">
            <a:avLst>
              <a:gd name="adj" fmla="val 6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choos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y-m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lat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make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electing styles to modif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822320" y="2276640"/>
            <a:ext cx="4419720" cy="3924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7" name="AutoShape 3"/>
          <p:cNvSpPr/>
          <p:nvPr/>
        </p:nvSpPr>
        <p:spPr>
          <a:xfrm>
            <a:off x="396720" y="5404680"/>
            <a:ext cx="2603520" cy="1700280"/>
          </a:xfrm>
          <a:prstGeom prst="roundRect">
            <a:avLst>
              <a:gd name="adj" fmla="val 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look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lists of sty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iginal ta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ones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667560" y="3005640"/>
            <a:ext cx="2603520" cy="2719800"/>
          </a:xfrm>
          <a:custGeom>
            <a:avLst/>
            <a:gdLst>
              <a:gd name="textAreaLeft" fmla="*/ 360 w 2603520"/>
              <a:gd name="textAreaRight" fmla="*/ 2603160 w 2603520"/>
              <a:gd name="textAreaTop" fmla="*/ 360 h 2719800"/>
              <a:gd name="textAreaBottom" fmla="*/ 2719440 h 2719800"/>
            </a:gdLst>
            <a:ahLst/>
            <a:rect l="textAreaLeft" t="textAreaTop" r="textAreaRight" b="textAreaBottom"/>
            <a:pathLst>
              <a:path w="21600" h="22565">
                <a:moveTo>
                  <a:pt x="13" y="0"/>
                </a:moveTo>
                <a:arcTo wR="13" hR="13" stAng="16200000" swAng="-5400000"/>
                <a:lnTo>
                  <a:pt x="0" y="22552"/>
                </a:lnTo>
                <a:arcTo wR="13" hR="13" stAng="10800000" swAng="-5400000"/>
                <a:lnTo>
                  <a:pt x="21587" y="22565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s a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how h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 will loo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ell a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ruction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s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tie</cp:lastModifiedBy>
  <dcterms:modified xsi:type="dcterms:W3CDTF">2010-09-29T06:43:19Z</dcterms:modified>
  <cp:revision>1</cp:revision>
  <dc:subject/>
  <dc:title>Designing Websites</dc:title>
</cp:coreProperties>
</file>